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6BB25-CD7A-444D-BC24-2BA670875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989D5-2D87-417A-8B6F-1A8EE99C7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588397-93B3-40F0-BCB5-B871B3B51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20E7A7-0B81-4A89-AD50-8C95BC70F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1E27AA-24F7-42C4-ABF6-A8CC830BF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A440DE-6A20-490C-85BD-80C1B3A6F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844A7A-8B1E-42D3-8B80-A8326AA91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8D3BC9-640E-4AC9-A877-75F6824C6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781669-324D-4D28-AEDD-1DFF1F649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A33687-81CA-49B5-8FB2-3EDCA87D2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AF88B4-7123-4B7A-AACB-9A7B46D3B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F73DBA-5B63-45FB-A2AA-8C61D8603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18AE0-63B3-43C4-9CCE-070B41382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835450-DB63-48E3-BD8D-4EAAC125A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57DF6E-6A66-4007-A6E7-FC4A32A2E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E5BAD3-7A50-46F0-A4CF-510AF6996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74A9DD-E79E-4C9A-8ABC-99752F0A9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6E2580-A105-4635-B641-C21FD19E8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DCAC19-F769-43BF-86D2-51854C009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A6D029-A911-4655-AEA7-B0F4551B9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6B64A6-2E72-4A5D-8767-F0A7E665B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B5CA8A-F59B-4A8B-9C99-EB0E5DEE4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75954C-7C06-41FE-BE10-21A62E157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9E0D3-C050-405E-96A6-CF1E94B53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5D678A-8625-4B9A-83B1-90D7A20DD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9BF612-880F-48D2-B76B-7B41295ED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1C191B-971B-4078-889E-0CA75F53B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34AE77-D288-4E58-A488-F34E8A4CB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52A88A-C4D1-4A1C-BDB6-D4EEE12A7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A49305-BA96-46E1-926A-27A4A02B6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599E48-06DA-4016-8C56-9FB57E7D2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23BB8F-81A0-4661-97EE-8E4D846F7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63F475-0FE6-4C0A-B1D0-009A2DDB3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339ADE-7A25-46BE-8D0D-5FDC194F8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415A8-45A2-4F23-8CC4-B58D385E7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4F0AAB-5F50-491F-8564-9C7B209E8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F580E3-871A-423C-8EDD-8CE071EC7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F5A1FE-6CE3-4016-B8B4-7EAE2368E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BBB4DF-E9B0-4A16-849E-C97518EF8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202433-5005-4EF3-BE01-2E5600DBA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F03BF5-F2B7-4BFB-B591-EB75C159D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402281-3D42-43AB-B193-C6500934F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060EB0-1420-4B8F-84AE-A6BB666A4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95E48F-D004-446F-A9DE-99AE0BF53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FF4320-E3DA-45F8-BF37-992BAA444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7A38A-0DD7-4B5E-AB54-216FB121D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3D30BE-5E98-4B6F-A107-AAEA38591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0B5A54-E0FA-4767-816A-17CC32CC9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F754B6-ACE3-4513-8538-439576A86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BE9C31-F4DC-418F-80A5-F98ED7A0C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BF4817-60A9-4A12-90DE-F55875463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A72AF-C4CF-4B90-8200-E52B59787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F3B74-D848-49EB-8BF3-C49C4371F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93C68-EE0F-4A31-A4B0-185FD7D94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A2FD2-DD07-42D4-A653-7E6D46459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D4CB3-340C-461E-8488-900782827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7359-8266-4F66-8A8C-AB76E7F82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FACE9-DE0C-42C2-BD30-23716FDC9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23848-CA25-40DE-8F8D-07A561071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0ADBF-32D8-4F16-9492-1CC1F0559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FD69E-C361-4BDB-B7DE-344DC8133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88E59-7B26-41D4-AD94-943484564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DF1E3A-B786-471D-B30D-61128E4AC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812A1E-66FF-46EF-ACAB-6CD37738B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9583AE-717C-4521-A9C5-CAC81ED2E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5D05F0-0ACC-4E32-A65B-147D4749A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2A1CC1-76D4-4A6E-A523-45E013762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5DB9-B57A-4394-B99D-A6D5B8DEE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CEC0BE-ADF2-4F32-896D-F0D2D5998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9FCD02-8DB7-4541-AAC5-1176B14DE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469CDD-412B-44CC-8290-B12E6DB06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1CF957-DE50-45F2-8260-D1C7F3117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ACB8B6-0EBE-4467-847B-34652FE13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3D537D-8EAE-4744-9B5A-32F53BC4C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728A5A-34CB-4FEB-9C8C-69700FEFF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F471D3-8BB9-400B-B5DA-E42749B48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274154-F028-42DA-8D1D-EB6E4E14F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B996D7-2D38-448D-96F5-8A5F7AD69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D7507-F0D2-4AC6-B51F-4F7038635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298F30-95B6-4C13-A24B-1C04E20CC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05FD0E-36DE-4437-AF26-9EB80F42C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D13E86-9B8E-4768-920D-DC2AFD7FB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A933AB-4D41-4E10-A276-AC01675F2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82D13A-F349-425E-BE19-D5970A562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3C0527-D305-4536-90E0-98A239598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B7D88A-C3BC-488A-AF15-79973637A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F2910F-4639-40D4-B28D-01B9E93A4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19CF8D-9327-495B-BE86-FFBCF9AE1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4786CE-791C-4DDE-965B-20D91CF9C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55FA-F5BD-40C8-9C16-CF03FB7E8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05AC94-039E-4DB5-9AEC-259D1DB8B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3AC92C-DBA2-4870-9645-2F96E3978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88FB30-2C1D-4E89-B3BB-BCB7E6217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7A2A59-E50F-435A-977E-EA54BCC38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DC6703-F340-455B-B883-F2CACE62B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F66464-631F-4F32-A8B8-753CAA050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A33D99-4D83-42ED-AC8E-4E1F744B2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3876C5-F4B2-4393-9393-7198650C4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709C09-A4E2-4FCA-981C-5DF35FBF6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0A3994-4228-437C-BF78-B3DD1D983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B528-B1DE-4207-84F1-64DA80716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467162-DA10-4032-9278-4C0F69864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0668B0-4965-4807-BF29-DD4081125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AB1CE7-93BB-4081-93BB-63B3D9CF7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1A6F96-05F6-47BD-A40C-5C47B8994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53379C-152D-4BC4-B0F8-DCB3047DF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2A91A7-26A0-40E4-B710-8849CCECC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02D5CC-CE38-4BAE-B066-BCE9B6970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53366C-7247-4674-BA2F-905389699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560B0E-A336-493F-924F-62673D3A4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34C400-ED15-4D20-AE1A-B28A2C767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3666-A728-4A88-9A55-C0D5446CC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BB083D-7221-447D-AB23-F2E1FBC6D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E92A4A-79C9-4178-B907-65AA21B9A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668253-0738-4E87-9189-A92FC3007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06F0DB-0F6E-460C-9CE8-5FB95B98C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A2779E-3975-4188-B811-8D88977C3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8744ED-81BC-4D8D-B529-B59BDA423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68CA39-82A5-45C7-BFF1-60390A43B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CFFCA3-1456-4D6C-980D-84A6F7FAB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DFBC67-9C06-417C-ACFD-E63945850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3CB45F-437D-4085-A65D-A0DD0F7BB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43F4-6F38-46EB-920C-6888F55C3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600C38-8E83-4B1C-888A-0F9B0761D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CE32E1-21F7-4CC1-82B3-F69DFE971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035DF5-68F5-4EC4-BCAE-267A5A5FB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971E74-6DF7-4DE9-B8A7-6A43FA2E4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0E69BD-80E5-4AE5-9A16-81885671F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C1EB64-D0D1-4963-B9BA-1CEF97E21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23084A-4585-4ADB-8A07-006E25E16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79D81B-4AF5-4950-A5FB-62B1D11F7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4E0ED1-56B8-47A0-A1C6-6D7ACED4B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A81902-2A30-4BDC-9B6C-DE27B9EF3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51C8-848F-4D13-9E4C-0BC8FA43E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2677F5-7C62-4813-917E-456AE9F19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8C28FA-2E79-4C06-9436-21019D53B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FFD3D3-603F-4A0B-A2F9-5CC7B9E69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304D6D-395D-46DD-B557-83C39A12B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CBC6F2-F5CB-4A5D-9A53-D0F65CEAE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0A27DD-2579-4FAF-BF43-3698B6CFE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47A190-345D-4CDC-B25B-0A481A8A4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45A39C-C8FC-4FF7-8E40-36E43DB82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E00FDF-48C1-475B-9BE6-20B81D498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79F60A-3BD5-4572-A663-ECEA3F86F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0591C-0DC9-4C21-A4E8-630AB94F13E3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0D7D1-D752-426E-9FB6-A68704E50E81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B817A-82F0-43E8-9F21-DE35247C4A14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D8B66-CE2E-487E-BEF0-F259E54824D8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64FE4-0752-4D93-89BC-24402B204FA2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4822E-EB2F-42CD-AEA6-23551057B7FE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A94E5-2F90-4564-971C-793CB1F1C785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C26FC-D259-4C18-A493-2B9AB0AFB3FE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F509B-903E-458B-9228-7B901BED4747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B8716-7554-429F-BCDA-64E00C098016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B0516-1CCF-4A77-A3C3-AF00A321335D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2E1BF-FBD2-43C6-92C6-200608766697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79 Svetom sa rozlieha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ádherná zvesť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ráti sa čas, Pán príde zas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nie znamení jasný hla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ozorne sledujme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reč znamení: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Čoskoro príde už Pán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Bdejme a čakajme pripravení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ak, ako kázal on s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ráti sa čas, Pán príde zas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nie znamení jasný hlas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vetom sa rozlieha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ádherná zvesť: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Čoskoro príde už Pán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tvorenie má mu vzdať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chválu a česť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n v moci vráti sa k ná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ráti sa čas, Pán príde zas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nie znamení jasný hla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rírodné úkazy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vet plný zmien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eklamne zvestujú nám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Blíži sa rýchlo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en nádherný deň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eď v sláve príde náš Pá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ráti sa čas, Pán príde zas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nie znamení jasný hla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Búria sa národy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chveje sa ze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už skoro príde náš Pán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avždy sa rozplynie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j smrti tieň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eď v sláve zjaví sa Pá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5-01-06T18:53:21Z</dcterms:modified>
  <cp:revision>9</cp:revision>
  <dc:subject/>
  <dc:title>Je veľký náš Pán, on slávy je Kráľ Nech do všetkých strán  spev vrúcnych znie chvál.</dc:title>
</cp:coreProperties>
</file>